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BB2-FC07-43D4-A681-9860C1FB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EA1-EFA3-44B7-9D0D-66E8B1D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8AB-68C9-45D2-9E30-08551446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4C2-41F7-41E4-9FFA-562AD819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67DD-0580-4462-9068-501D0C94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3C1F-2177-4D17-A298-98F2DC3A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F14F-29DB-4966-A65B-6993C87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33F-7B81-4BBD-A157-619F697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F23C-A88D-43A3-B1FC-3885C87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0A56-47E9-4804-8017-2B6B20C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2EE6-77C0-45FE-9763-F86ABDC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5E7-2E34-436B-9A51-B177E85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1289-09CC-4351-923C-633959FE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61F2-FE5B-4B53-91D1-9CEB9D5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B85D-E3F8-48E2-8F8C-12DC285C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F30C-CFEB-4368-9582-8BBAD2DA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00C-F705-4135-A3FC-C3F25D57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E4E-2182-414E-8052-70123B8C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D82-8733-4723-9A8C-D20D4BB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757-AF9E-4468-8A66-C4931A3D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6B9-C0E4-4B06-B0FC-1A228A9D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633-BC80-45C8-A99A-7C53A094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782-6FF5-4AE9-AD36-21E1836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CDB-A84C-444D-A03C-07A2F5B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12D-F0C5-4A65-A1C9-9952B8F2CB0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8F2B-6755-4F09-A5DF-A871751A639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Suje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24000" y="3141720"/>
            <a:ext cx="5832720" cy="2448000"/>
            <a:chOff x="2124000" y="3141720"/>
            <a:chExt cx="5832720" cy="2448000"/>
          </a:xfrm>
        </p:grpSpPr>
        <p:sp>
          <p:nvSpPr>
            <p:cNvPr id="93" name=""/>
            <p:cNvSpPr/>
            <p:nvPr/>
          </p:nvSpPr>
          <p:spPr>
            <a:xfrm>
              <a:off x="2124000" y="4448160"/>
              <a:ext cx="42919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24000" y="3800880"/>
              <a:ext cx="42573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7800" y="4241880"/>
              <a:ext cx="763560" cy="8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00760" y="4569840"/>
              <a:ext cx="231480" cy="25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04600" y="3270960"/>
              <a:ext cx="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591640" y="5043240"/>
              <a:ext cx="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94600" y="5223960"/>
              <a:ext cx="123588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66"/>
                  </a:solidFill>
                  <a:latin typeface="Arial"/>
                  <a:ea typeface="Arial"/>
                </a:rPr>
                <a:t>1 000 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4600" y="3141720"/>
              <a:ext cx="123588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66"/>
                  </a:solidFill>
                  <a:latin typeface="Arial"/>
                  <a:ea typeface="Arial"/>
                </a:rPr>
                <a:t>1 000 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132600" y="4185360"/>
              <a:ext cx="7725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4040" y="3974400"/>
              <a:ext cx="101268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6666"/>
                  </a:solidFill>
                  <a:latin typeface="Arial"/>
                  <a:ea typeface="Arial"/>
                </a:rPr>
                <a:t>Ø 10 H8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23720" y="4692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03720" y="450936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124000" y="1557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Etude des caractéristiques mécaniqu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de la liaison frettée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au niveau de l’articulation de la chap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1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97680" y="2488680"/>
            <a:ext cx="3309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 maxi   =  </a:t>
            </a:r>
            <a:r>
              <a:rPr b="1" lang="en-US" sz="2400" spc="-1" strike="noStrike" u="sng">
                <a:solidFill>
                  <a:srgbClr val="336666"/>
                </a:solidFill>
                <a:uFillTx/>
                <a:latin typeface="Arial"/>
              </a:rPr>
              <a:t>     4  T 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π . D . L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 maxi   =  </a:t>
            </a:r>
            <a:r>
              <a:rPr b="1" lang="en-US" sz="2400" spc="-1" strike="noStrike" u="sng">
                <a:solidFill>
                  <a:srgbClr val="336666"/>
                </a:solidFill>
                <a:uFillTx/>
                <a:latin typeface="Arial"/>
              </a:rPr>
              <a:t> 4 * 1 00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π . 10 . 15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 maxi  =  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8,5 MP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1413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ression maximale de contact entre l’arbre et le moyeu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1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01320" y="241848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Valeur de la pression de frettage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 frettage maxi  =  320 – 8,5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 frettage maxi  =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11,5 MP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2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2000" y="1841040"/>
            <a:ext cx="570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Diamètre extérieur minimum de la frette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Ø 10 * 1,5  =  15 mm (mini)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révoir un ratio supérieur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our limiter le phénomène de fatigue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D = 30 à 40 m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3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43280" y="1413000"/>
            <a:ext cx="4294080" cy="4824360"/>
            <a:chOff x="2843280" y="1413000"/>
            <a:chExt cx="4294080" cy="48243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0" t="740" r="4192" b="5701"/>
            <a:stretch/>
          </p:blipFill>
          <p:spPr>
            <a:xfrm>
              <a:off x="2843280" y="1413000"/>
              <a:ext cx="429408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V="1">
              <a:off x="3206160" y="3127320"/>
              <a:ext cx="3505680" cy="235620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3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1696680"/>
            <a:ext cx="598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Lecture des actions mécaniques maximales transmissibles 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Moment :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0,08*10</a:t>
            </a:r>
            <a:r>
              <a:rPr b="1" lang="fr-FR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Nm,             80 Nm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Effort axial :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1,5*10</a:t>
            </a:r>
            <a:r>
              <a:rPr b="1" lang="fr-FR" sz="24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N,          15 000 N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9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2778480"/>
            <a:ext cx="27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Lecture du serrag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de la frette sur l’arbre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Δ = 30 µm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16360" y="1484280"/>
            <a:ext cx="2925720" cy="4556160"/>
            <a:chOff x="4716360" y="1484280"/>
            <a:chExt cx="2925720" cy="45561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rcRect l="0" t="1957" r="8782" b="52818"/>
            <a:stretch/>
          </p:blipFill>
          <p:spPr>
            <a:xfrm>
              <a:off x="4716360" y="1484280"/>
              <a:ext cx="2925720" cy="45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 flipV="1">
              <a:off x="5249880" y="2869920"/>
              <a:ext cx="2057400" cy="247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9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1809720"/>
            <a:ext cx="57290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Prise en compte de la rugosité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Ra 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Arbre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 :  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0,4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3215160"/>
            <a:ext cx="5040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Ra </a:t>
            </a:r>
            <a:r>
              <a:rPr b="0" lang="fr-FR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Alésage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0,8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Δ ' = Δ  +  4 (Ra</a:t>
            </a:r>
            <a:r>
              <a:rPr b="1" lang="fr-FR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A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+ Ra</a:t>
            </a:r>
            <a:r>
              <a:rPr b="1" lang="fr-FR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M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   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Δ ' = 30 + 4*(0,4 + 0,8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Δ ' = 35 µm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88120" y="1307160"/>
            <a:ext cx="44247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Etude de l’ajustement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Serrage maximum 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35 µm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66"/>
                </a:solidFill>
                <a:latin typeface="Arial"/>
              </a:rPr>
              <a:t>Ø Arbre : </a:t>
            </a: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10 , .. 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0" lang="fr-FR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 : 10,… 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0" lang="fr-FR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 : 10,… 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66"/>
                </a:solidFill>
                <a:latin typeface="Arial"/>
              </a:rPr>
              <a:t>Ø Alésage : </a:t>
            </a: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10 H8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lésage </a:t>
            </a:r>
            <a:r>
              <a:rPr b="0" lang="fr-FR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10,02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lésage </a:t>
            </a:r>
            <a:r>
              <a:rPr b="0" lang="fr-FR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0" y="1621080"/>
            <a:ext cx="49176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Diamètre maximal de l’arbre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rrage maximal 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Δ '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35 µm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 = Ø Alésag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  + Δ’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 = 10,000 + 0,035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 = 10,035 mm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9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19640" y="1484280"/>
            <a:ext cx="2925720" cy="4556160"/>
            <a:chOff x="3419640" y="1484280"/>
            <a:chExt cx="2925720" cy="455616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0" t="1957" r="8782" b="52818"/>
            <a:stretch/>
          </p:blipFill>
          <p:spPr>
            <a:xfrm>
              <a:off x="3419640" y="1484280"/>
              <a:ext cx="2925720" cy="45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flipV="1">
              <a:off x="3952800" y="2869920"/>
              <a:ext cx="2057400" cy="247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1439" r="5416" b="1935"/>
          <a:stretch/>
        </p:blipFill>
        <p:spPr>
          <a:xfrm>
            <a:off x="3276720" y="1413000"/>
            <a:ext cx="3271680" cy="4676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5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3840" y="1499040"/>
            <a:ext cx="561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Serrage minimal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Serrage minimal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Δ ' 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&lt;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&lt; 0 µ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IT Arbre, en qualité 7 :      </a:t>
            </a:r>
            <a:r>
              <a:rPr b="1" i="1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0,015 m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3598920"/>
            <a:ext cx="6480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Ø </a:t>
            </a:r>
            <a:r>
              <a:rPr b="1" i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Arbre mini  = 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10,035 – 0,015 = 10,02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Δ</a:t>
            </a:r>
            <a:r>
              <a:rPr b="1" i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mini 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= Ø </a:t>
            </a:r>
            <a:r>
              <a:rPr b="1" i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Alésage maxi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-  Ø </a:t>
            </a:r>
            <a:r>
              <a:rPr b="1" i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Arbre mini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Δ</a:t>
            </a:r>
            <a:r>
              <a:rPr b="1" i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mini 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= 10,022 – 10,02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Δ</a:t>
            </a:r>
            <a:r>
              <a:rPr b="1" i="1" lang="en-US" sz="2400" spc="-1" strike="noStrike" baseline="-30000">
                <a:solidFill>
                  <a:srgbClr val="666699"/>
                </a:solidFill>
                <a:latin typeface="Arial"/>
                <a:ea typeface="Times New Roman"/>
              </a:rPr>
              <a:t>mini </a:t>
            </a:r>
            <a:r>
              <a:rPr b="1" i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 &gt; 0 </a:t>
            </a:r>
            <a:r>
              <a:rPr b="1" i="1" lang="en-US" sz="2400" spc="-1" strike="noStrike" baseline="-30000">
                <a:solidFill>
                  <a:srgbClr val="666699"/>
                </a:solidFill>
                <a:latin typeface="Arial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        Conclusion : aucun serrag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59200" y="3610080"/>
            <a:ext cx="722160" cy="1625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Arbr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max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06800" y="3395520"/>
            <a:ext cx="806400" cy="2338560"/>
          </a:xfrm>
          <a:prstGeom prst="rect">
            <a:avLst/>
          </a:prstGeom>
          <a:solidFill>
            <a:srgbClr val="00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Alésag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min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06800" y="4205160"/>
            <a:ext cx="806400" cy="102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727440" y="52275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45496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97360" y="4714920"/>
            <a:ext cx="1039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16280" y="36100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25360" y="420516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46600" y="2741760"/>
            <a:ext cx="0" cy="15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22480" y="3556080"/>
            <a:ext cx="7452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11320" y="4176720"/>
            <a:ext cx="74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2745720" y="2518200"/>
            <a:ext cx="1454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Serrage maxi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Re maxi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4760" y="3875040"/>
            <a:ext cx="722160" cy="1352520"/>
          </a:xfrm>
          <a:prstGeom prst="rect">
            <a:avLst/>
          </a:prstGeom>
          <a:solidFill>
            <a:srgbClr val="00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Arbr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min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67360" y="3395520"/>
            <a:ext cx="806400" cy="2338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Alésag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max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67360" y="4062240"/>
            <a:ext cx="806400" cy="11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3360" y="5238720"/>
            <a:ext cx="22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02200" y="4054320"/>
            <a:ext cx="1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997240" y="38718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29280" y="2612880"/>
            <a:ext cx="0" cy="16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87880" y="3808440"/>
            <a:ext cx="1065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987880" y="4011120"/>
            <a:ext cx="10656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5737320" y="2552760"/>
            <a:ext cx="1412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Serrage mini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Moment mini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48200" y="4646520"/>
            <a:ext cx="1071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62760" y="45608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4160" y="17478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Objectif à atteindr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1872000"/>
            <a:ext cx="56167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Modification du degré de tolérance de l’alésag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lésage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10 H6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lésage </a:t>
            </a:r>
            <a:r>
              <a:rPr b="0" lang="fr-FR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10,009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Ø Alésage </a:t>
            </a:r>
            <a:r>
              <a:rPr b="0" lang="fr-FR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1909440"/>
            <a:ext cx="5688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rrage maximal, diamètre maximal de l’arbre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rrage maximal 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Δ '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35 µm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 = Ø Alésag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  + Δ’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 = 10,000 + 0,035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Ø Arbre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maxi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 = 10,035 mm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1685880"/>
            <a:ext cx="61214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Serrage minimal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Serrage minimal : 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Δ ' 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&lt;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 &lt; 0 µ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IT Arbre, en qualité 6 :          </a:t>
            </a: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0,009 m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i="1" lang="fr-FR" sz="2400" spc="-1" strike="noStrike" baseline="-25000">
                <a:solidFill>
                  <a:srgbClr val="336666"/>
                </a:solidFill>
                <a:latin typeface="Arial"/>
              </a:rPr>
              <a:t>mini </a:t>
            </a: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 = 10,035 – 0,009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Ø Arbre </a:t>
            </a:r>
            <a:r>
              <a:rPr b="1" i="1" lang="fr-FR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0" lang="fr-FR" sz="1800" spc="-1" strike="noStrike" baseline="-25000">
                <a:solidFill>
                  <a:srgbClr val="3366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336666"/>
                </a:solidFill>
                <a:latin typeface="Arial"/>
              </a:rPr>
              <a:t>= 10,026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876680"/>
            <a:ext cx="6121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Δ</a:t>
            </a:r>
            <a:r>
              <a:rPr b="1" i="1" lang="en-US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  = Ø Alésage </a:t>
            </a:r>
            <a:r>
              <a:rPr b="1" i="1" lang="en-US" sz="2400" spc="-1" strike="noStrike" baseline="-25000">
                <a:solidFill>
                  <a:srgbClr val="336666"/>
                </a:solidFill>
                <a:latin typeface="Arial"/>
              </a:rPr>
              <a:t>maxi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   - Ø Arbre </a:t>
            </a:r>
            <a:r>
              <a:rPr b="1" i="1" lang="en-US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Δ</a:t>
            </a:r>
            <a:r>
              <a:rPr b="1" i="1" lang="en-US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  = 10,009 – 10,026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Δ</a:t>
            </a:r>
            <a:r>
              <a:rPr b="1" i="1" lang="en-US" sz="2400" spc="-1" strike="noStrike" baseline="-25000">
                <a:solidFill>
                  <a:srgbClr val="336666"/>
                </a:solidFill>
                <a:latin typeface="Arial"/>
              </a:rPr>
              <a:t>mini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  =  - 0,017  µ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Conclusion : 17 µm de serrag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pression de contact : 170 à 180 MP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9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46640" y="1413000"/>
            <a:ext cx="2925720" cy="4556160"/>
            <a:chOff x="3446640" y="1413000"/>
            <a:chExt cx="2925720" cy="45561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1957" r="8782" b="52818"/>
            <a:stretch/>
          </p:blipFill>
          <p:spPr>
            <a:xfrm>
              <a:off x="3446640" y="1413000"/>
              <a:ext cx="2925720" cy="45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V="1">
              <a:off x="3979800" y="2797920"/>
              <a:ext cx="2057040" cy="247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970440" y="3379320"/>
              <a:ext cx="2057040" cy="18954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3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71640" y="1414440"/>
            <a:ext cx="4294440" cy="4822920"/>
            <a:chOff x="2771640" y="1414440"/>
            <a:chExt cx="4294440" cy="482292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rcRect l="0" t="740" r="4192" b="5701"/>
            <a:stretch/>
          </p:blipFill>
          <p:spPr>
            <a:xfrm>
              <a:off x="2771640" y="1414440"/>
              <a:ext cx="4294440" cy="48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flipV="1">
              <a:off x="3113280" y="3620160"/>
              <a:ext cx="3533040" cy="18666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122640" y="3430440"/>
              <a:ext cx="3533040" cy="205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5724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170280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Lectur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des actions mécaniques minimales transmissibles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Pression minimal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170 MP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Moment minimal :    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0,04*10</a:t>
            </a:r>
            <a:r>
              <a:rPr b="1" lang="fr-FR" sz="2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Nm,     40 N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ffort axial minimal :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0.9*10</a:t>
            </a:r>
            <a:r>
              <a:rPr b="1" lang="fr-FR" sz="2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4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N,         9 000 N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3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6720" y="1773360"/>
            <a:ext cx="3348000" cy="4060800"/>
            <a:chOff x="3276720" y="1773360"/>
            <a:chExt cx="3348000" cy="406080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rcRect l="0" t="884" r="3561" b="1779"/>
            <a:stretch/>
          </p:blipFill>
          <p:spPr>
            <a:xfrm>
              <a:off x="3276720" y="1773360"/>
              <a:ext cx="334800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flipV="1">
              <a:off x="3920400" y="3821760"/>
              <a:ext cx="0" cy="1774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33040" y="38314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13920" y="1876320"/>
              <a:ext cx="2189880" cy="19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31240" y="4170600"/>
              <a:ext cx="39024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921480" y="2198160"/>
              <a:ext cx="2189880" cy="19810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1696320"/>
            <a:ext cx="61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Dimension de l’arbre d’entraînement 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Ø 10 mm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Choix des matériaux de l’arbre et du moyeu 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Référence :</a:t>
            </a: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 C35 E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Type d’alliage 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acier non allié, pour traitements thermiques</a:t>
            </a:r>
            <a:r>
              <a:rPr b="0" lang="fr-FR" sz="18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5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5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2880" y="2346840"/>
            <a:ext cx="51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empérature de chauffage du moye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our dilater la matière :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de 270 °C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à la limite d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50 °C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-1241640" y="3625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79800" y="1483200"/>
            <a:ext cx="55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Calcul de la longueur du bras de levier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48000" y="2258640"/>
            <a:ext cx="338472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oment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= F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orce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* D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istanc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istance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= </a:t>
            </a:r>
            <a:r>
              <a:rPr b="0" lang="en-US" sz="2400" spc="-1" strike="noStrike" u="sng">
                <a:solidFill>
                  <a:srgbClr val="336666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n-US" sz="2400" spc="-1" strike="noStrike" u="sng" baseline="-30000">
                <a:solidFill>
                  <a:srgbClr val="336666"/>
                </a:solidFill>
                <a:uFillTx/>
                <a:latin typeface="Arial"/>
                <a:ea typeface="Times New Roman"/>
              </a:rPr>
              <a:t>oment</a:t>
            </a:r>
            <a:r>
              <a:rPr b="0" lang="en-US" sz="2400" spc="-1" strike="noStrike" u="sng">
                <a:solidFill>
                  <a:srgbClr val="336666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orc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istance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=  </a:t>
            </a:r>
            <a:r>
              <a:rPr b="0" lang="en-US" sz="2400" spc="-1" strike="noStrike" u="sng">
                <a:solidFill>
                  <a:srgbClr val="336666"/>
                </a:solidFill>
                <a:uFillTx/>
                <a:latin typeface="Arial"/>
                <a:ea typeface="Times New Roman"/>
              </a:rPr>
              <a:t>40 00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1 00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-30000">
                <a:solidFill>
                  <a:srgbClr val="336666"/>
                </a:solidFill>
                <a:latin typeface="Arial"/>
                <a:ea typeface="Times New Roman"/>
              </a:rPr>
              <a:t>istance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  =  40 mm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588000" y="4437000"/>
            <a:ext cx="1655640" cy="1368360"/>
            <a:chOff x="6588000" y="4437000"/>
            <a:chExt cx="1655640" cy="1368360"/>
          </a:xfrm>
        </p:grpSpPr>
        <p:sp>
          <p:nvSpPr>
            <p:cNvPr id="273" name=""/>
            <p:cNvSpPr/>
            <p:nvPr/>
          </p:nvSpPr>
          <p:spPr>
            <a:xfrm>
              <a:off x="6588000" y="4437000"/>
              <a:ext cx="1655640" cy="4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85440" y="4510080"/>
              <a:ext cx="246600" cy="27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96680" y="4632120"/>
              <a:ext cx="0" cy="11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89240" y="4657680"/>
              <a:ext cx="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89240" y="5683320"/>
              <a:ext cx="120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60680" y="5373720"/>
              <a:ext cx="75852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66"/>
                  </a:solidFill>
                  <a:latin typeface="Times New Roman"/>
                </a:rPr>
                <a:t>40 mm</a:t>
              </a:r>
              <a:endParaRPr b="0" lang="en-US" sz="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21560" y="4583160"/>
              <a:ext cx="15984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419640" y="2421000"/>
            <a:ext cx="5760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2421000"/>
            <a:ext cx="505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2421000"/>
            <a:ext cx="5760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3141720"/>
            <a:ext cx="5032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8000" y="3645000"/>
            <a:ext cx="43164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4292640"/>
            <a:ext cx="5032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29264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429264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429264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429264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19640" y="537372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48000" y="537372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537372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5373720"/>
            <a:ext cx="0" cy="43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5373720"/>
            <a:ext cx="5032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6880" y="3284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Fi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9360" y="1840320"/>
            <a:ext cx="388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Composition chimique 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0,35 à 0,40 % C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0,15 à 0,35 % Si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0,50 à 0,80 % Mn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&lt; 0,030 % P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66"/>
                </a:solidFill>
                <a:latin typeface="Arial"/>
              </a:rPr>
              <a:t>&lt; 0,035 % S</a:t>
            </a:r>
            <a:r>
              <a:rPr b="0" lang="fr-FR" sz="2400" spc="-1" strike="noStrike">
                <a:solidFill>
                  <a:srgbClr val="3366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5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1126080"/>
            <a:ext cx="61264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raitements thermiques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rempe :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850 à 880 °C, refroidissement à l’huile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revenu arbre :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00 °C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revenu moyeu :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550 °C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(pièce plus massive,          diffusion plus lente de la chaleur,        dureté plus faible)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5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59462" r="56267" b="1935"/>
          <a:stretch/>
        </p:blipFill>
        <p:spPr>
          <a:xfrm>
            <a:off x="1187280" y="3933720"/>
            <a:ext cx="186228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2130480"/>
            <a:ext cx="556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Limite de résistance mécanique élastique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Arbre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 Ø &lt; 16 mm,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: 490 MPa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Moyeu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16 mm &lt; d &lt; 40 mm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  : 400 MPa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5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5/15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8280" y="2393280"/>
            <a:ext cx="5496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Contrainte minimale admissible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moyeu, 400 MPa </a:t>
            </a:r>
            <a:r>
              <a:rPr b="1" i="1" lang="en-US" sz="2400" spc="-1" strike="noStrike" baseline="-25000">
                <a:solidFill>
                  <a:srgbClr val="336666"/>
                </a:solidFill>
                <a:latin typeface="Arial"/>
              </a:rPr>
              <a:t>moyeu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400 * 0,8  =  320 MPa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2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1258560"/>
            <a:ext cx="591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harge verticale sur chacun des bras :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 000 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Longueur optimale de l’emmanchement 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Ø * 1,5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         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L =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0 * 1,5 =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15 m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916360" y="2349360"/>
            <a:ext cx="4464000" cy="1657440"/>
            <a:chOff x="2916360" y="2349360"/>
            <a:chExt cx="4464000" cy="1657440"/>
          </a:xfrm>
        </p:grpSpPr>
        <p:sp>
          <p:nvSpPr>
            <p:cNvPr id="129" name=""/>
            <p:cNvSpPr/>
            <p:nvPr/>
          </p:nvSpPr>
          <p:spPr>
            <a:xfrm>
              <a:off x="2916360" y="3233880"/>
              <a:ext cx="3174840" cy="3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6360" y="2795760"/>
              <a:ext cx="314964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0800" y="3094200"/>
              <a:ext cx="565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0320" y="3316320"/>
              <a:ext cx="171360" cy="17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71680" y="24368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262320" y="3637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8640" y="3759120"/>
              <a:ext cx="914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66"/>
                  </a:solidFill>
                  <a:latin typeface="Arial"/>
                  <a:ea typeface="Arial"/>
                </a:rPr>
                <a:t>1 000 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8640" y="2349360"/>
              <a:ext cx="914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66"/>
                  </a:solidFill>
                  <a:latin typeface="Arial"/>
                  <a:ea typeface="Arial"/>
                </a:rPr>
                <a:t>1 000 N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881680" y="3056040"/>
              <a:ext cx="5716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81800" y="2913120"/>
              <a:ext cx="89856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6666"/>
                  </a:solidFill>
                  <a:latin typeface="Arial"/>
                  <a:ea typeface="Arial"/>
                </a:rPr>
                <a:t>Ø 10 H8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339876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6280" y="32749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ésentation du TP de fre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089000" y="3473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Document ressour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age 11/1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87640" y="2060640"/>
            <a:ext cx="3541680" cy="4406760"/>
            <a:chOff x="2987640" y="2060640"/>
            <a:chExt cx="3541680" cy="44067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2987640" y="2060640"/>
              <a:ext cx="3541680" cy="44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49120" y="4733640"/>
              <a:ext cx="44280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6666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8080" y="4778640"/>
              <a:ext cx="23292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998680" y="2315160"/>
              <a:ext cx="372600" cy="312480"/>
              <a:chOff x="5998680" y="2315160"/>
              <a:chExt cx="372600" cy="312480"/>
            </a:xfrm>
          </p:grpSpPr>
          <p:sp>
            <p:nvSpPr>
              <p:cNvPr id="148" name=""/>
              <p:cNvSpPr/>
              <p:nvPr/>
            </p:nvSpPr>
            <p:spPr>
              <a:xfrm>
                <a:off x="5998680" y="2315160"/>
                <a:ext cx="372600" cy="31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66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5120" y="2346120"/>
                <a:ext cx="244440" cy="245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998680" y="3715200"/>
              <a:ext cx="372600" cy="312480"/>
              <a:chOff x="5998680" y="3715200"/>
              <a:chExt cx="372600" cy="312480"/>
            </a:xfrm>
          </p:grpSpPr>
          <p:sp>
            <p:nvSpPr>
              <p:cNvPr id="151" name=""/>
              <p:cNvSpPr/>
              <p:nvPr/>
            </p:nvSpPr>
            <p:spPr>
              <a:xfrm>
                <a:off x="5998680" y="3715200"/>
                <a:ext cx="372600" cy="31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66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45120" y="3746160"/>
                <a:ext cx="244440" cy="245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401800" y="6133680"/>
              <a:ext cx="44280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6666"/>
                  </a:solidFill>
                  <a:latin typeface="Times New Roman"/>
                </a:rPr>
                <a:t>T/2</a:t>
              </a:r>
              <a:endParaRPr b="0" lang="en-US" sz="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50760" y="6178320"/>
              <a:ext cx="23292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96960" y="6163560"/>
              <a:ext cx="44280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6666"/>
                  </a:solidFill>
                  <a:latin typeface="Times New Roman"/>
                </a:rPr>
                <a:t>T/2</a:t>
              </a:r>
              <a:endParaRPr b="0" lang="en-US" sz="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3640" y="6193440"/>
              <a:ext cx="23292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268360" y="1413000"/>
            <a:ext cx="53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ression maximale de contact entre l’arbre et le moyeu 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6:53:53Z</dcterms:created>
  <dc:creator>Michel 3</dc:creator>
  <dc:description/>
  <dc:language>en-US</dc:language>
  <cp:lastModifiedBy>Michel 3</cp:lastModifiedBy>
  <dcterms:modified xsi:type="dcterms:W3CDTF">2007-05-12T15:24:56Z</dcterms:modified>
  <cp:revision>20</cp:revision>
  <dc:subject/>
  <dc:title>Présentation du TP de frettage</dc:title>
</cp:coreProperties>
</file>